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media/image5.wmf" ContentType="image/x-wmf"/>
  <Override PartName="/ppt/media/image10.png" ContentType="image/png"/>
  <Override PartName="/ppt/media/image30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ED24-5BFA-44FE-91F7-947BAB71C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71AF-2AC9-4D61-9B16-1AF61DB5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 Unicode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5851-E3ED-4E04-BEFA-387928785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 Unicode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CA66-09A7-4CD1-AD6A-2632C6C16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50F7-F2FC-42AC-AC35-26D38E24B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37CB-EAF2-4578-81AC-FBA0C4A6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F7F3-355B-4E3F-98C4-D8C4B4C2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D834-4353-4E10-B961-6774FAE7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32FC-6FA1-4594-BA5E-9709E067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1E7B-4AD1-446E-9E3E-7F5189EC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D91D-D299-49B8-B03A-514AB901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6B9B-60AB-4492-88D8-81B6196A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8DD8-7869-43E7-A500-87CA2026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11E4-644D-4DED-BA99-D1D09D9E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3D58-3DB1-4842-B8FF-7CA8AEA1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 Unicode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8723-6FCE-4F41-AFF1-4B89EF94F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 Unicode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B92D-7546-43FF-93B9-BD674592F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2A37-B6BE-49C7-9C14-7A0DFEDC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 Unicode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41A3-2B50-4EF9-A195-9D32633E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168C-352E-46CC-920D-C09ACA84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1F47-BC5E-4DF7-96F6-0CDA7AEC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BFA3-640B-442E-ABF3-2152F3F8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AAA2-108B-4403-B53F-2D82A828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0555-2126-4406-99C5-1F12C8F0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Arial Unicode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726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4FCB-D9D2-4A69-9C80-569A26F2660A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5024-8AF4-4BDA-BB44-2EE3C2ABC5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6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726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5650-8EBE-4168-88E2-9AF5782C78C5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6FEB-79A1-4DDB-8CEE-D35E3ACC0D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D32F-1ECF-4DA9-B2F6-7C88646922C9}" type="datetime"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8610480" cy="167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Arial"/>
              </a:rPr>
              <a:t>Learning About Letters</a:t>
            </a:r>
            <a:endParaRPr b="0" lang="en-US" sz="5400" spc="-1" strike="noStrike">
              <a:solidFill>
                <a:srgbClr val="0066ff"/>
              </a:solidFill>
              <a:latin typeface="Arial Unicode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2520" y="2895480"/>
            <a:ext cx="723924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 Unicode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hicka, Chicka, Boom, Boom”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Unicode MS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 Unicode MS"/>
            </a:endParaRPr>
          </a:p>
          <a:p>
            <a:pPr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 Unicode MS"/>
              </a:rPr>
              <a:t>Mm, Rr, Ss, Bb, Tt, Aa</a:t>
            </a:r>
            <a:endParaRPr b="0" lang="en-US" sz="4500" spc="-1" strike="noStrike">
              <a:solidFill>
                <a:srgbClr val="ffffff"/>
              </a:solidFill>
              <a:latin typeface="Arial Unicode MS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 Unicode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Kindergarten  2005-06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Unitedstreaming Video Clip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Rr </a:t>
            </a:r>
            <a:r>
              <a:rPr b="0" lang="en-US" sz="4800" spc="-1" strike="noStrike">
                <a:solidFill>
                  <a:srgbClr val="0066ff"/>
                </a:solidFill>
                <a:latin typeface="Arial Unicode MS"/>
              </a:rPr>
              <a:t>is for</a:t>
            </a: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 Rhinoceros!</a:t>
            </a:r>
            <a:endParaRPr b="0" lang="en-US" sz="60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8153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Rr </a:t>
            </a:r>
            <a:r>
              <a:rPr b="0" lang="en-US" sz="4800" spc="-1" strike="noStrike">
                <a:solidFill>
                  <a:srgbClr val="0066ff"/>
                </a:solidFill>
                <a:latin typeface="Arial Unicode MS"/>
              </a:rPr>
              <a:t>is for</a:t>
            </a: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 Rhinos!</a:t>
            </a:r>
            <a:endParaRPr b="0" lang="en-US" sz="60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301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ff"/>
                </a:solidFill>
                <a:latin typeface="Arial Unicode MS"/>
              </a:rPr>
              <a:t>“</a:t>
            </a:r>
            <a:r>
              <a:rPr b="0" lang="en-US" sz="5400" spc="-1" strike="noStrike">
                <a:solidFill>
                  <a:srgbClr val="0066ff"/>
                </a:solidFill>
                <a:latin typeface="Arial Unicode MS"/>
              </a:rPr>
              <a:t>Ramona the Rattlesnake!”</a:t>
            </a:r>
            <a:endParaRPr b="0" lang="en-US" sz="54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8153280" cy="5257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1828800" y="57913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Click Screen to Play Movie!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ff"/>
                </a:solidFill>
                <a:latin typeface="Arial Unicode MS"/>
              </a:rPr>
              <a:t>All About Rr!</a:t>
            </a:r>
            <a:endParaRPr b="0" lang="en-US" sz="72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14400" y="1549440"/>
            <a:ext cx="8229600" cy="53085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1981080" y="4419720"/>
            <a:ext cx="4496040" cy="22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</a:rPr>
              <a:t>Play Movie!</a:t>
            </a:r>
            <a:endParaRPr b="0" lang="en-US" sz="4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1. Find Rr in the alphabet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2. See how to write Rr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3. Read words that begin with Rr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3013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Words Begin with Rr!</a:t>
            </a:r>
            <a:endParaRPr b="0" lang="en-US" sz="60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14400" y="1549440"/>
            <a:ext cx="822960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657600" y="289548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Unicode MS"/>
              </a:rPr>
              <a:t>Ss</a:t>
            </a:r>
            <a:endParaRPr b="0" lang="en-US" sz="9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Ss </a:t>
            </a:r>
            <a:r>
              <a:rPr b="0" lang="en-US" sz="4800" spc="-1" strike="noStrike">
                <a:solidFill>
                  <a:srgbClr val="0066ff"/>
                </a:solidFill>
                <a:latin typeface="Arial Unicode MS"/>
              </a:rPr>
              <a:t>is for</a:t>
            </a: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 Seal!</a:t>
            </a:r>
            <a:endParaRPr b="0" lang="en-US" sz="60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14400" y="1542960"/>
            <a:ext cx="82296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Ss </a:t>
            </a:r>
            <a:r>
              <a:rPr b="0" lang="en-US" sz="4800" spc="-1" strike="noStrike">
                <a:solidFill>
                  <a:srgbClr val="0066ff"/>
                </a:solidFill>
                <a:latin typeface="Arial Unicode MS"/>
              </a:rPr>
              <a:t>is for</a:t>
            </a: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 Swan!</a:t>
            </a:r>
            <a:endParaRPr b="0" lang="en-US" sz="60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14400" y="1549440"/>
            <a:ext cx="822960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“</a:t>
            </a: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Solomon the Seal!”</a:t>
            </a:r>
            <a:endParaRPr b="0" lang="en-US" sz="60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482840" y="2741760"/>
            <a:ext cx="3352680" cy="2286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990720" y="1603440"/>
            <a:ext cx="8153280" cy="52545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905120" y="563868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Click Screen to Play Movie!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4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9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ff"/>
                </a:solidFill>
                <a:latin typeface="Arial Unicode MS"/>
              </a:rPr>
              <a:t>All About Ss!</a:t>
            </a:r>
            <a:endParaRPr b="0" lang="en-US" sz="72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8153280" cy="52484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2057400" y="4114800"/>
            <a:ext cx="4724280" cy="27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Unicode MS"/>
              </a:rPr>
              <a:t>Play Movie!</a:t>
            </a:r>
            <a:endParaRPr b="0" lang="en-US" sz="4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Find Ss in the alphabet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ee how to write Ss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Read words that begin with Ss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5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5840" y="53316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Arial Unicode MS"/>
              </a:rPr>
              <a:t>“</a:t>
            </a:r>
            <a:r>
              <a:rPr b="0" lang="en-US" sz="4800" spc="-1" strike="noStrike">
                <a:solidFill>
                  <a:srgbClr val="0066ff"/>
                </a:solidFill>
                <a:latin typeface="Arial Unicode MS"/>
              </a:rPr>
              <a:t>Chicka-Chicka Boom Boom!”</a:t>
            </a:r>
            <a:endParaRPr b="0" lang="en-US" sz="48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90720" y="1549440"/>
            <a:ext cx="8153280" cy="53085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1143000" y="59436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Click the screen to play the video.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1840" y="38052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Words Begin with Ss!</a:t>
            </a:r>
            <a:endParaRPr b="0" lang="en-US" sz="60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14400" y="1549440"/>
            <a:ext cx="822960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1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3809880" y="2743200"/>
            <a:ext cx="312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Unicode MS"/>
              </a:rPr>
              <a:t>Bb</a:t>
            </a:r>
            <a:endParaRPr b="0" lang="en-US" sz="9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Bb </a:t>
            </a:r>
            <a:r>
              <a:rPr b="0" lang="en-US" sz="4800" spc="-1" strike="noStrike">
                <a:solidFill>
                  <a:srgbClr val="0066ff"/>
                </a:solidFill>
                <a:latin typeface="Arial Unicode MS"/>
              </a:rPr>
              <a:t>is for</a:t>
            </a: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 Bison!</a:t>
            </a:r>
            <a:endParaRPr b="0" lang="en-US" sz="60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90720" y="1542960"/>
            <a:ext cx="815328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Bb </a:t>
            </a:r>
            <a:r>
              <a:rPr b="0" lang="en-US" sz="4800" spc="-1" strike="noStrike">
                <a:solidFill>
                  <a:srgbClr val="0066ff"/>
                </a:solidFill>
                <a:latin typeface="Arial Unicode MS"/>
              </a:rPr>
              <a:t>is for</a:t>
            </a: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 Bear!</a:t>
            </a:r>
            <a:endParaRPr b="0" lang="en-US" sz="60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8229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ff"/>
                </a:solidFill>
                <a:latin typeface="Arial Unicode MS"/>
              </a:rPr>
              <a:t>“</a:t>
            </a:r>
            <a:r>
              <a:rPr b="0" lang="en-US" sz="5400" spc="-1" strike="noStrike">
                <a:solidFill>
                  <a:srgbClr val="0066ff"/>
                </a:solidFill>
                <a:latin typeface="Arial Unicode MS"/>
              </a:rPr>
              <a:t>I’m a Big Brown Bear!”</a:t>
            </a:r>
            <a:endParaRPr b="0" lang="en-US" sz="54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1981080" y="60199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Click Screen to Play Movie!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9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ff"/>
                </a:solidFill>
                <a:latin typeface="Arial Unicode MS"/>
              </a:rPr>
              <a:t>All About Bb!</a:t>
            </a:r>
            <a:endParaRPr b="0" lang="en-US" sz="72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14400" y="1549440"/>
            <a:ext cx="8229600" cy="53085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3886200" y="35053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1752480" y="4495680"/>
            <a:ext cx="4648320" cy="20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</a:rPr>
              <a:t>Play Movie!</a:t>
            </a:r>
            <a:endParaRPr b="0" lang="en-US" sz="4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1. Find Bb in the alphabet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2. See how to write Bb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3. Read words that begin with Bb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5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Words Begin with B!</a:t>
            </a:r>
            <a:endParaRPr b="0" lang="en-US" sz="60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8153280" cy="52578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2514600" y="609588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286000" y="616428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Click the screen to play movie!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1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3733920" y="29718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Unicode MS"/>
              </a:rPr>
              <a:t>Tt</a:t>
            </a:r>
            <a:endParaRPr b="0" lang="en-US" sz="9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Tt </a:t>
            </a:r>
            <a:r>
              <a:rPr b="0" lang="en-US" sz="4800" spc="-1" strike="noStrike">
                <a:solidFill>
                  <a:srgbClr val="0066ff"/>
                </a:solidFill>
                <a:latin typeface="Arial Unicode MS"/>
              </a:rPr>
              <a:t>is for</a:t>
            </a: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 Turtle!</a:t>
            </a:r>
            <a:endParaRPr b="0" lang="en-US" sz="60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14400" y="1542960"/>
            <a:ext cx="815328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7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Tt </a:t>
            </a:r>
            <a:r>
              <a:rPr b="0" lang="en-US" sz="4800" spc="-1" strike="noStrike">
                <a:solidFill>
                  <a:srgbClr val="0066ff"/>
                </a:solidFill>
                <a:latin typeface="Arial Unicode MS"/>
              </a:rPr>
              <a:t>is for</a:t>
            </a: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 Tamarins!</a:t>
            </a:r>
            <a:endParaRPr b="0" lang="en-US" sz="60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3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3657600" y="3124080"/>
            <a:ext cx="281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Unicode MS"/>
              </a:rPr>
              <a:t>Mm</a:t>
            </a:r>
            <a:endParaRPr b="0" lang="en-US" sz="9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“</a:t>
            </a: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Teddy the Tiger!”</a:t>
            </a:r>
            <a:endParaRPr b="0" lang="en-US" sz="60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8229600" cy="50925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4"/>
          <p:cNvSpPr/>
          <p:nvPr/>
        </p:nvSpPr>
        <p:spPr>
          <a:xfrm>
            <a:off x="2580120" y="5867280"/>
            <a:ext cx="45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Click Screen to Play Movie!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9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ff"/>
                </a:solidFill>
                <a:latin typeface="Arial Unicode MS"/>
              </a:rPr>
              <a:t>All About Tt!</a:t>
            </a:r>
            <a:endParaRPr b="0" lang="en-US" sz="72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8153280" cy="52578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4"/>
          <p:cNvSpPr/>
          <p:nvPr/>
        </p:nvSpPr>
        <p:spPr>
          <a:xfrm>
            <a:off x="2514600" y="4325760"/>
            <a:ext cx="4724280" cy="23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Unicode MS"/>
              </a:rPr>
              <a:t>Play Movie!</a:t>
            </a:r>
            <a:endParaRPr b="0" lang="en-US" sz="4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1. Find Tt in the alphabet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2. See how to write Tt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3. Read words that begin with Tt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5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Words Begin with Tt!</a:t>
            </a:r>
            <a:endParaRPr b="0" lang="en-US" sz="60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4"/>
          <p:cNvSpPr/>
          <p:nvPr/>
        </p:nvSpPr>
        <p:spPr>
          <a:xfrm>
            <a:off x="2590920" y="6172200"/>
            <a:ext cx="510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Click the screen to play movie!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1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4114800" y="304812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Unicode MS"/>
              </a:rPr>
              <a:t>Aa</a:t>
            </a:r>
            <a:endParaRPr b="0" lang="en-US" sz="9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Aa </a:t>
            </a:r>
            <a:r>
              <a:rPr b="0" lang="en-US" sz="4800" spc="-1" strike="noStrike">
                <a:solidFill>
                  <a:srgbClr val="0066ff"/>
                </a:solidFill>
                <a:latin typeface="Arial Unicode MS"/>
              </a:rPr>
              <a:t>is for</a:t>
            </a: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 Ant!</a:t>
            </a:r>
            <a:endParaRPr b="0" lang="en-US" sz="60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914400" y="1542960"/>
            <a:ext cx="82296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7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Aa </a:t>
            </a:r>
            <a:r>
              <a:rPr b="0" lang="en-US" sz="4800" spc="-1" strike="noStrike">
                <a:solidFill>
                  <a:srgbClr val="0066ff"/>
                </a:solidFill>
                <a:latin typeface="Arial Unicode MS"/>
              </a:rPr>
              <a:t>is for</a:t>
            </a: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 Apes!</a:t>
            </a:r>
            <a:endParaRPr b="0" lang="en-US" sz="60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8153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3" dur="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“</a:t>
            </a: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Alligator Annie!”</a:t>
            </a:r>
            <a:endParaRPr b="0" lang="en-US" sz="60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990720" y="1549440"/>
            <a:ext cx="8153280" cy="53085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4"/>
          <p:cNvSpPr/>
          <p:nvPr/>
        </p:nvSpPr>
        <p:spPr>
          <a:xfrm>
            <a:off x="2504160" y="5715000"/>
            <a:ext cx="45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Click Screen to Play Movie!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9" dur="1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ff"/>
                </a:solidFill>
                <a:latin typeface="Arial Unicode MS"/>
              </a:rPr>
              <a:t>All About Aa!</a:t>
            </a:r>
            <a:endParaRPr b="0" lang="en-US" sz="72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8153280" cy="509256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4"/>
          <p:cNvSpPr/>
          <p:nvPr/>
        </p:nvSpPr>
        <p:spPr>
          <a:xfrm>
            <a:off x="2057400" y="4648320"/>
            <a:ext cx="5105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Unicode MS"/>
              </a:rPr>
              <a:t>Play Movie!</a:t>
            </a:r>
            <a:endParaRPr b="0" lang="en-US" sz="4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buClr>
                <a:srgbClr val="ffff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Find Aa in the alphabet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buClr>
                <a:srgbClr val="ffff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ee how to write Aa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buClr>
                <a:srgbClr val="ffff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Read words that begin with Aa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5" dur="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301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ff"/>
                </a:solidFill>
                <a:latin typeface="Arial Unicode MS"/>
              </a:rPr>
              <a:t>Short “a” Rhyming Words!</a:t>
            </a:r>
            <a:endParaRPr b="0" lang="en-US" sz="54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1549440"/>
            <a:ext cx="8229600" cy="53085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2057400" y="58672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Click Screen to Play Movie!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1" dur="1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ff"/>
                </a:solidFill>
                <a:latin typeface="Arial Unicode MS"/>
              </a:rPr>
              <a:t>“</a:t>
            </a:r>
            <a:r>
              <a:rPr b="0" lang="en-US" sz="5400" spc="-1" strike="noStrike">
                <a:solidFill>
                  <a:srgbClr val="0066ff"/>
                </a:solidFill>
                <a:latin typeface="Arial Unicode MS"/>
              </a:rPr>
              <a:t>Pat Had a Very Fat Cat!”</a:t>
            </a:r>
            <a:endParaRPr b="0" lang="en-US" sz="54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8229600" cy="51814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1981080" y="579132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Click Screen to Play Movie!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7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ff"/>
                </a:solidFill>
                <a:latin typeface="Arial Unicode MS"/>
              </a:rPr>
              <a:t>Mm </a:t>
            </a:r>
            <a:r>
              <a:rPr b="1" lang="en-US" sz="4800" spc="-1" strike="noStrike">
                <a:solidFill>
                  <a:srgbClr val="0066ff"/>
                </a:solidFill>
                <a:latin typeface="Arial Unicode MS"/>
              </a:rPr>
              <a:t>is for</a:t>
            </a:r>
            <a:r>
              <a:rPr b="1" lang="en-US" sz="6000" spc="-1" strike="noStrike">
                <a:solidFill>
                  <a:srgbClr val="0066ff"/>
                </a:solidFill>
                <a:latin typeface="Arial Unicode MS"/>
              </a:rPr>
              <a:t> Meerkat!</a:t>
            </a:r>
            <a:endParaRPr b="0" lang="en-US" sz="60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1541520"/>
            <a:ext cx="82296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Credits</a:t>
            </a:r>
            <a:endParaRPr b="0" lang="en-US" sz="6000" spc="-1" strike="noStrike">
              <a:solidFill>
                <a:srgbClr val="0066ff"/>
              </a:solidFill>
              <a:latin typeface="Arial Unicode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Animal Alphabet. Discovery Channel School. 0. unitedstreaming. 27 August 2005 &lt;http://www.unitedstreaming.com/&gt;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Animal ABC's. Rainbow Educational Media. 1988. unitedstreaming. 27 August 2005 &lt;http://www.unitedstreaming.com/&gt;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Phonics in Context: ABC Animals. United Learning. 1997. unitedstreaming. 27 August 2005 &lt;http://www.unitedstreaming.com/&gt;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All About Our ABCs. United Learning. 2005. unitedstreaming. 27 August 2005 http://www.unitedstreaming.com/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Phonics in Context: The Long and Short Vowels. United Learning. 1997. unitedstreaming. 29 August 2005 &lt;http://www.unitedstreaming.com/&gt; 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Credits Continued …</a:t>
            </a:r>
            <a:endParaRPr b="0" lang="en-US" sz="6000" spc="-1" strike="noStrike">
              <a:solidFill>
                <a:srgbClr val="0066ff"/>
              </a:solidFill>
              <a:latin typeface="Arial Unicode MS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295280" y="1828800"/>
            <a:ext cx="7620120" cy="60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Story of Read-Alee-Deed-Alee, The: The Hot Dot. Slim Goodbody. 1994. unitedstreaming. 29 August 2005 http://www.unitedstreaming.com/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Story of Read-Alee-Deed-Alee, The: More at the Core. Slim Goodbody. 1994. unitedstreaming. 4 September 2005 http://www.unitedstreaming.com/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Story of Read-Alee-Deed-Alee, The: The Cold Gold. Slim Goodbody. 1994. unitedstreaming. 4 September 2005 http://www.unitedstreaming.com/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Story of Read-Alee-Deed-Alee, The: Valentine: Be Mine. Slim Goodbody. 1994. unitedstreaming. 4 September 2005 http://www.unitedstreaming.com/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United Learning. "Stories About Vowels: Ann's Wonderful Sail (Short A and Long A).“  unitedstreaming. http://www.unitedstreaming.com/ 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01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Mm is for Musk Oxen!</a:t>
            </a:r>
            <a:endParaRPr b="0" lang="en-US" sz="60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558800"/>
            <a:ext cx="822960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ff"/>
                </a:solidFill>
                <a:latin typeface="Arial Unicode MS"/>
              </a:rPr>
              <a:t>“</a:t>
            </a:r>
            <a:r>
              <a:rPr b="0" lang="en-US" sz="5400" spc="-1" strike="noStrike">
                <a:solidFill>
                  <a:srgbClr val="0066ff"/>
                </a:solidFill>
                <a:latin typeface="Arial Unicode MS"/>
              </a:rPr>
              <a:t>I’m a Merry, </a:t>
            </a:r>
            <a:br>
              <a:rPr sz="5400"/>
            </a:br>
            <a:r>
              <a:rPr b="0" lang="en-US" sz="5400" spc="-1" strike="noStrike">
                <a:solidFill>
                  <a:srgbClr val="0066ff"/>
                </a:solidFill>
                <a:latin typeface="Arial Unicode MS"/>
              </a:rPr>
              <a:t>Merry  Monkey!”</a:t>
            </a:r>
            <a:endParaRPr b="0" lang="en-US" sz="54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8229600" cy="53341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1905120" y="586728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Click Screen to Play Movie!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ff"/>
                </a:solidFill>
                <a:latin typeface="Arial Unicode MS"/>
              </a:rPr>
              <a:t>All About Mm!</a:t>
            </a:r>
            <a:endParaRPr b="0" lang="en-US" sz="7200" spc="-1" strike="noStrike">
              <a:solidFill>
                <a:srgbClr val="0066ff"/>
              </a:solidFill>
              <a:latin typeface="Arial Unicode MS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370160" y="2879640"/>
          <a:ext cx="3579840" cy="20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0160" y="2879640"/>
                    <a:ext cx="357984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Text Box 4"/>
          <p:cNvSpPr/>
          <p:nvPr/>
        </p:nvSpPr>
        <p:spPr>
          <a:xfrm>
            <a:off x="3352680" y="2819520"/>
            <a:ext cx="3810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990720" y="1565280"/>
            <a:ext cx="8153280" cy="5292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2057400" y="3886200"/>
            <a:ext cx="4876920" cy="28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</a:rPr>
              <a:t>Play Movie!</a:t>
            </a:r>
            <a:endParaRPr b="0" lang="en-US" sz="4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Find Mm in the alphabet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ee how to write Mm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Read words that begin with Mm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301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 Unicode MS"/>
              </a:rPr>
              <a:t>Words Begin with Mm!</a:t>
            </a:r>
            <a:endParaRPr b="0" lang="en-US" sz="6000" spc="-1" strike="noStrike">
              <a:solidFill>
                <a:srgbClr val="0066ff"/>
              </a:solidFill>
              <a:latin typeface="Arial Unicode MS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14400" y="1549440"/>
            <a:ext cx="822960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886200" y="31240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Unicode MS"/>
              </a:rPr>
              <a:t>Rr</a:t>
            </a:r>
            <a:endParaRPr b="0" lang="en-US" sz="9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5T23:58:52Z</dcterms:created>
  <dc:creator>Sally Walter</dc:creator>
  <dc:description/>
  <dc:language>en-US</dc:language>
  <cp:lastModifiedBy>Help Desk</cp:lastModifiedBy>
  <dcterms:modified xsi:type="dcterms:W3CDTF">2010-08-15T03:54:14Z</dcterms:modified>
  <cp:revision>28</cp:revision>
  <dc:subject/>
  <dc:title>Learning About Letters</dc:title>
</cp:coreProperties>
</file>